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66F3-7233-42AC-A8D7-084C1765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E28-19B3-49F0-9AE6-CE059789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11F1-ABE0-40FB-92F1-D2D6D3448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3700-361B-41B2-97FC-54390181FDA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F938-0F82-4AFA-9CE6-9F3EBA3F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B9FD4-B0A4-4BAD-A671-F2D94775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5E457-981A-4B99-980E-58227E09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863A9-6E94-4B74-AA70-E8BB9FB1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526A-4A22-45DC-92BA-BCB6FE8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5DAD-8C02-4660-82F3-27BE7F3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438B-97DB-4E6E-97BF-AD14890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57422-0677-41E2-A427-41F842F4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5994-59E0-42F7-B0F8-0FEBD0C7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21FFF-7451-4939-9A23-B4B741EF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5DDE-9571-47FD-9DB0-EA48AF309CA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17BCE-B056-42AD-9100-2D2DC23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D17D9-6B5A-4E0F-A06D-91AB5016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912C6-1FC9-4640-BB86-62D90A99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C6655-4FD7-4DCE-A88E-1F0CA44B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14307-7EC3-4273-A37A-D4128DE5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E3AA6-770F-4E02-9AAE-B809FBFE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06231-4819-4668-9FDD-CD496EA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9C629-68E9-46F2-BAA1-9D4F73B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9B880-7D2D-4F38-9B53-797D57C8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53342-829C-4FFB-A566-08F02705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A270-A1A7-4466-8B30-398EA14D38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610ED-D19D-4A5B-8910-9D4D28D3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F36B-126C-4B2F-91AC-005A37BF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6929C-FDFF-4B66-A2BF-30CEED9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D0D0A-24B1-424E-9598-1DAF39E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A4504-DA74-4447-A342-F754A66F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19CC3-AE6A-48A3-AAC4-57A699A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91E09-6391-4203-B7ED-601762C8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5E303-5111-4C7C-85F1-D08E377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905EF-8215-4154-8D6E-A7AB684F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7B709-354A-4F66-AB07-AF16CA2A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934-2733-452E-BF83-2AC6C5436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43A78-5B14-4FD2-9E90-F044653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A7138-E371-45DA-A61E-7A647214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22673-F7CE-4AAD-99C8-69F0B3D9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3A90A-D470-451F-AE69-71759A7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1EECC-991C-454A-9878-DF91E0CA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CE219-B4FB-4C3A-A4C2-148C2B32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6F71-3CC4-4F36-93F7-0C1E297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60D8-CFBE-4D28-9556-774A6F99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141C6-6A78-4BF8-ACF4-B47627F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EE4E2-43F1-4A29-8855-0A79A6D9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425-862F-4002-8FAF-AAE7FD6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F789-AC67-470A-9D93-F30D5CC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33E3E-74F8-47ED-9AFA-A7A12A7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A3AC-D14C-435A-AF61-D49B444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B430-26F5-4217-A296-E331B882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C68B3-AC4B-4916-9A7F-5AD1DBE8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94A-7D78-4F82-B473-C72AE28B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E78-3023-4B0F-9BB8-7DBA47F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B9A-AE68-45EF-8877-DE7CB2FC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9F6-A76D-46B5-BD3C-ADF6C7D9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7F0-5C13-4D81-A02D-ED61AC57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E7B0-A2EB-486D-9029-16A4B8123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96A-3607-41D0-A0B3-C5A5886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C11-2ED1-4E31-B74B-752030D4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562-E171-4C03-A79F-746F8209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A9D-B9F0-43F4-A8A8-58B00732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B88-3621-4942-8EA0-32C011C40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DC84-EC2B-44D5-87D0-B0D455B8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FCBC-BC56-418F-9108-EE5FA58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830F-D84C-4BDD-93EF-136C1A62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93C-DA9A-492F-B777-AEDACD2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E965-3228-419D-B169-B9081E06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9FA1-F221-4ABB-A914-B29D85F199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652-0715-4AE2-8CC0-C2B9772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C3FC-AD84-408E-8729-2B02A8F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C509-B471-4F07-BE6C-5007CA51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CFD9-F4A9-4A84-8120-A3AD945B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D04C-497A-459A-8355-7DB2D842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1EF-E1F9-4A0D-8CF4-FA9E6339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A6C3-AA9C-463A-BA8F-32A5858B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B37F-FB83-4004-AD0B-A681497A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63C3-97D8-43F5-94B0-AD9F0B79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0B17-7E75-476A-BAB2-CAD0578D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53CE-BC9B-47F8-9472-4F0FA41D33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2D51-4297-466C-A79C-74DE40EE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A20A-CECC-4A12-8E4D-FB3392C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D1C5-25B1-44A0-AB0D-6247B40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0558-84C0-4D1E-9C60-A47A3F6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68D0-4C02-4424-9E95-90DF1C0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EAB7-6C1F-45B7-9D0A-BEE0472E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E67A-3032-4198-9054-332DA2C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30DB-2694-4BB7-8C31-7BE3218D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5D2A-F06D-45F2-B9C6-5A43FF24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FD0D-DD2B-4C3A-9C6A-23EFAC4F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FC9D-771A-4676-A124-40232720E5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3B12-3F77-4147-ACE3-A47D6B6F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E49E-70B9-4BAD-8276-1612F65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75CD-AD70-4584-938D-E7102FE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A017-E6A0-4C14-A1D8-DEB13F3B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6820-D386-460B-922F-35121E8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300D-8708-467B-86A8-EB3C516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5E35-5221-4F5A-A517-DFD77E3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D586-0D8A-42A9-989F-19FEF1CF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B868-AE10-4840-BE09-21D7946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0648-7B5A-4540-9F90-9C300BE9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A785-FBAD-4D6E-A684-5799750DD2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84C9-82EF-4246-AD66-88F4C4AC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BBFB-8414-42C2-BF14-FD1BD068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F891B-800D-45DD-A7EB-F30BD828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98C0-16E7-423A-8CA6-BD0D5A3F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1939-AB7A-474F-81E2-9E0A810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0640-7166-4DB0-88A1-452EB23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622F-DEA5-42C0-85C6-6640204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AF8D-FE99-4521-A0AA-A125F47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1CEC-E039-48E6-B042-129EB6DC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D966-E38B-4038-9FB9-CBDE95AE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917B-664B-4149-A08A-3F0569EEA51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F5CE-776D-44E6-B035-EB9E3F4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5836B-CCC4-4FD9-8DEB-357A3218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7A9C-3673-44FE-9D2A-ED012CAA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34FCC-ED95-4369-81F0-6DCB683D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A33F4-B4A9-4A43-975E-7FAB8921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5347-6109-44A8-8832-50616A6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E957-298B-4845-87F9-CC35470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F78C-1219-4755-ABEA-B6F8436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6C453-F38A-407D-9AAE-7BBFDE5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67FAC-51AF-4AB5-B2FC-1A73FB25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7056-C1F7-4EEF-BBEA-33FE7E9C9F4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F8E0-D6D2-4569-9642-5381666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FFC80-79A3-42BE-B184-96D1F77D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CC27-DAB8-4CC3-AF93-EA22DF9B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0639-5DB0-4369-8823-AA4A231F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91A55-6EC0-40DA-9B63-1E4E84ED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F7DE-A33B-40DA-8E6D-D72879A4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A2B59-6E83-4769-8CB8-947807BB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5612-A79E-47B4-BD2C-71E851A9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E56E-EB30-4080-B989-F51A40DF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1F52B-F306-474C-A71B-7B14AC2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3214-9964-4C8C-BE60-9D546CE801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9606-D889-4A96-9A80-3433FD97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C9BB-35D7-4D46-B722-7463BAB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7305A-0B18-4A7D-AD27-3F4CF95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A172-1BB3-4919-9847-CFC11FD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572A-F0FE-4B8E-9968-36785B4A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226E7-A950-4710-ACF6-5C2D67B5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DFD8-727B-4645-9C0E-12772CF1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D379D-9ECF-4864-B2FF-19C05EB3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57530-5252-4787-8BC1-4D5C2BB3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8082B-9FC3-488C-82BD-C08694E6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176D-9397-4668-8B36-3036CCA30D5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B2C2-D8BC-4406-B5EB-DAED63D29CF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7BC4-0EFA-4E0C-96E4-E6AA02510EF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3FB6-0A0A-4D19-A493-3C60DD58CE3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AD18-2367-4295-B96E-9589A87A8EA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8F3-86E7-468D-8606-6A5B5A5098C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220-C776-4A66-B64B-249FDC2F455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D350-79B1-4D6B-AF0C-8F9BEC60D7A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1C6-C1F7-440F-BD5A-872D729573E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59AC-E631-4991-8A87-A90F7D94DC3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2F4D-327D-47DB-A9C8-C7864C70B53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CEAB-E48F-4153-A85A-C430897486B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candy bouquets. The starting price is $16 for five candy bars and another $1.99 for each additional candy bar. Write an equation in slope-intercept form that expresses the total amount of the candy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1.99x + 16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flower shop sells Mother’s Day pink chrysanthemums in wicker baskets. The wicker basket costs $11, and each flower is $3. Write an equation in slope-intercept form that expresses the total amount a Mother’s Day gift would cos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3x + 1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loriculture students develop floristry prices by using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loriculture—FL 1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velop marketing and pricing strategies for retail florist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n invoice for sale using industry standard formula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A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create linear models to represent problem situation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: A telephone bill is $10 per month plus $0.30 per minute for long distance calls. Write an equation in slope-intercept form that expresses the total amount of the phone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-intercept form: y = mx + b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m = slope of the lin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x = variabl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b = y-intercept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 = rise/ru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flower shop charges $25 for a bouquet of six lily flowers. Each additional lily costs $2.75. Write an equation in slope-intercept form that expresses the total amount of the flower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Remember the slope-intercept form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y = mx + b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set cost ($25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cost that changes according to the x variab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75x + 25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rose boutonnieres for a beginning price of $9. Each additional small rose adds an extra $2.50 to the price. Write an equation in slope-intercept form that expresses the total amount of a boutonnie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slope of the line = $2.5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y-intercept, set number = $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5x + 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7-31T05:03:17Z</dcterms:modified>
  <cp:revision>15</cp:revision>
  <dc:subject/>
  <dc:title>South Dakota Ag Education</dc:title>
</cp:coreProperties>
</file>